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934320" cy="922032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8720">
                <a:moveTo>
                  <a:pt x="4" y="0"/>
                </a:moveTo>
                <a:arcTo wR="4" hR="4" stAng="16200000" swAng="-5400000"/>
                <a:lnTo>
                  <a:pt x="0" y="28716"/>
                </a:lnTo>
                <a:arcTo wR="4" hR="4" stAng="10800000" swAng="-5400000"/>
                <a:lnTo>
                  <a:pt x="21596" y="28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934320" cy="922032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8720">
                <a:moveTo>
                  <a:pt x="4" y="0"/>
                </a:moveTo>
                <a:arcTo wR="4" hR="4" stAng="16200000" swAng="-5400000"/>
                <a:lnTo>
                  <a:pt x="0" y="28716"/>
                </a:lnTo>
                <a:arcTo wR="4" hR="4" stAng="10800000" swAng="-5400000"/>
                <a:lnTo>
                  <a:pt x="21596" y="28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934320" cy="922032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8720">
                <a:moveTo>
                  <a:pt x="4" y="0"/>
                </a:moveTo>
                <a:arcTo wR="4" hR="4" stAng="16200000" swAng="-5400000"/>
                <a:lnTo>
                  <a:pt x="0" y="28716"/>
                </a:lnTo>
                <a:arcTo wR="4" hR="4" stAng="10800000" swAng="-5400000"/>
                <a:lnTo>
                  <a:pt x="21596" y="28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934320" cy="922032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8720">
                <a:moveTo>
                  <a:pt x="4" y="0"/>
                </a:moveTo>
                <a:arcTo wR="4" hR="4" stAng="16200000" swAng="-5400000"/>
                <a:lnTo>
                  <a:pt x="0" y="28716"/>
                </a:lnTo>
                <a:arcTo wR="4" hR="4" stAng="10800000" swAng="-5400000"/>
                <a:lnTo>
                  <a:pt x="21596" y="28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-360" y="306360"/>
            <a:ext cx="360" cy="86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9400" y="4351320"/>
            <a:ext cx="59194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-360" y="69984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62080" y="69048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509760" y="4351320"/>
            <a:ext cx="5921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6360"/>
            <a:ext cx="1440" cy="860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509760" y="4351320"/>
            <a:ext cx="5921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30636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509760" y="4351320"/>
            <a:ext cx="5921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0636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509760" y="4351320"/>
            <a:ext cx="5921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2000" y="32522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3560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0956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6200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13560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10956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000" y="888840"/>
            <a:ext cx="8794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4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2240" y="45720"/>
            <a:ext cx="771840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62000" y="888840"/>
            <a:ext cx="8794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2000" y="32522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560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9560" y="8888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6200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560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9560" y="3252240"/>
            <a:ext cx="2831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4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92240" y="45720"/>
            <a:ext cx="771840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2522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888840"/>
            <a:ext cx="4291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2000" y="3252240"/>
            <a:ext cx="8794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37320" y="754200"/>
            <a:ext cx="1455840" cy="1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616240" y="6616800"/>
            <a:ext cx="715680" cy="240120"/>
            <a:chOff x="8616240" y="6616800"/>
            <a:chExt cx="715680" cy="240120"/>
          </a:xfrm>
        </p:grpSpPr>
        <p:sp>
          <p:nvSpPr>
            <p:cNvPr id="2" name=""/>
            <p:cNvSpPr/>
            <p:nvPr/>
          </p:nvSpPr>
          <p:spPr>
            <a:xfrm>
              <a:off x="8810640" y="6616800"/>
              <a:ext cx="328680" cy="23976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616240" y="6616800"/>
              <a:ext cx="715680" cy="240120"/>
              <a:chOff x="8616240" y="6616800"/>
              <a:chExt cx="715680" cy="240120"/>
            </a:xfrm>
          </p:grpSpPr>
          <p:sp>
            <p:nvSpPr>
              <p:cNvPr id="4" name=""/>
              <p:cNvSpPr/>
              <p:nvPr/>
            </p:nvSpPr>
            <p:spPr>
              <a:xfrm>
                <a:off x="8810640" y="6616800"/>
                <a:ext cx="328680" cy="23976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16240" y="6616800"/>
                <a:ext cx="715680" cy="24012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53280" bIns="4428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fld id="{F7BF949A-0667-4CD3-930A-C3C46E9428BB}" type="slidenum"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"/>
          <p:cNvSpPr/>
          <p:nvPr/>
        </p:nvSpPr>
        <p:spPr>
          <a:xfrm>
            <a:off x="7113600" y="1138320"/>
            <a:ext cx="1770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222120" y="762120"/>
            <a:ext cx="7175520" cy="1440"/>
          </a:xfrm>
          <a:prstGeom prst="line">
            <a:avLst/>
          </a:prstGeom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6680" y="25210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29680" y="693720"/>
            <a:ext cx="166680" cy="158760"/>
          </a:xfrm>
          <a:custGeom>
            <a:avLst/>
            <a:gdLst/>
            <a:ahLst/>
            <a:rect l="l" t="t" r="r" b="b"/>
            <a:pathLst>
              <a:path w="464" h="442">
                <a:moveTo>
                  <a:pt x="231" y="0"/>
                </a:moveTo>
                <a:lnTo>
                  <a:pt x="177" y="167"/>
                </a:lnTo>
                <a:lnTo>
                  <a:pt x="0" y="167"/>
                </a:lnTo>
                <a:lnTo>
                  <a:pt x="144" y="273"/>
                </a:lnTo>
                <a:lnTo>
                  <a:pt x="90" y="441"/>
                </a:lnTo>
                <a:lnTo>
                  <a:pt x="231" y="338"/>
                </a:lnTo>
                <a:lnTo>
                  <a:pt x="373" y="441"/>
                </a:lnTo>
                <a:lnTo>
                  <a:pt x="319" y="273"/>
                </a:lnTo>
                <a:lnTo>
                  <a:pt x="463" y="167"/>
                </a:lnTo>
                <a:lnTo>
                  <a:pt x="286" y="167"/>
                </a:lnTo>
                <a:lnTo>
                  <a:pt x="231" y="0"/>
                </a:lnTo>
              </a:path>
            </a:pathLst>
          </a:custGeom>
          <a:solidFill>
            <a:srgbClr val="336699"/>
          </a:solidFill>
          <a:ln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507080" y="708120"/>
            <a:ext cx="1585080" cy="214920"/>
            <a:chOff x="7507080" y="708120"/>
            <a:chExt cx="1585080" cy="214920"/>
          </a:xfrm>
        </p:grpSpPr>
        <p:sp>
          <p:nvSpPr>
            <p:cNvPr id="11" name=""/>
            <p:cNvSpPr/>
            <p:nvPr/>
          </p:nvSpPr>
          <p:spPr>
            <a:xfrm>
              <a:off x="7516800" y="708120"/>
              <a:ext cx="1565280" cy="21276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507080" y="708120"/>
              <a:ext cx="1585080" cy="214920"/>
              <a:chOff x="7507080" y="708120"/>
              <a:chExt cx="1585080" cy="214920"/>
            </a:xfrm>
          </p:grpSpPr>
          <p:sp>
            <p:nvSpPr>
              <p:cNvPr id="13" name=""/>
              <p:cNvSpPr/>
              <p:nvPr/>
            </p:nvSpPr>
            <p:spPr>
              <a:xfrm>
                <a:off x="7516800" y="708120"/>
                <a:ext cx="1565280" cy="212760"/>
              </a:xfrm>
              <a:prstGeom prst="roundRect">
                <a:avLst>
                  <a:gd name="adj" fmla="val 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07080" y="708120"/>
                <a:ext cx="1585080" cy="214920"/>
              </a:xfrm>
              <a:prstGeom prst="roundRect">
                <a:avLst>
                  <a:gd name="adj" fmla="val 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0" bIns="46800" anchor="t">
                <a:spAutoFit/>
              </a:bodyPr>
              <a:p>
                <a:pPr algn="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336699"/>
                    </a:solidFill>
                    <a:latin typeface="Times New Roman"/>
                  </a:rPr>
                  <a:t>The University of Texas at Austi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" name=""/>
          <p:cNvGrpSpPr/>
          <p:nvPr/>
        </p:nvGrpSpPr>
        <p:grpSpPr>
          <a:xfrm>
            <a:off x="8043840" y="236520"/>
            <a:ext cx="1071720" cy="639720"/>
            <a:chOff x="8043840" y="236520"/>
            <a:chExt cx="1071720" cy="639720"/>
          </a:xfrm>
        </p:grpSpPr>
        <p:sp>
          <p:nvSpPr>
            <p:cNvPr id="16" name=""/>
            <p:cNvSpPr/>
            <p:nvPr/>
          </p:nvSpPr>
          <p:spPr>
            <a:xfrm>
              <a:off x="8043840" y="236520"/>
              <a:ext cx="1071720" cy="63972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8043840" y="236520"/>
              <a:ext cx="1071720" cy="639720"/>
              <a:chOff x="8043840" y="236520"/>
              <a:chExt cx="1071720" cy="639720"/>
            </a:xfrm>
          </p:grpSpPr>
          <p:sp>
            <p:nvSpPr>
              <p:cNvPr id="18" name=""/>
              <p:cNvSpPr/>
              <p:nvPr/>
            </p:nvSpPr>
            <p:spPr>
              <a:xfrm>
                <a:off x="8043840" y="236520"/>
                <a:ext cx="1071720" cy="639720"/>
              </a:xfrm>
              <a:prstGeom prst="roundRect">
                <a:avLst>
                  <a:gd name="adj" fmla="val 2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045280" y="236520"/>
                <a:ext cx="1069920" cy="636480"/>
              </a:xfrm>
              <a:prstGeom prst="roundRect">
                <a:avLst>
                  <a:gd name="adj" fmla="val 2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848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GB" sz="3600" spc="-1" strike="noStrike">
                    <a:solidFill>
                      <a:srgbClr val="336699"/>
                    </a:solidFill>
                    <a:latin typeface="Times New Roman"/>
                  </a:rPr>
                  <a:t>AR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"/>
          <p:cNvSpPr/>
          <p:nvPr/>
        </p:nvSpPr>
        <p:spPr>
          <a:xfrm>
            <a:off x="7537320" y="754200"/>
            <a:ext cx="1455840" cy="1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166680" y="25210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429680" y="693720"/>
            <a:ext cx="166680" cy="158760"/>
          </a:xfrm>
          <a:custGeom>
            <a:avLst/>
            <a:gdLst/>
            <a:ahLst/>
            <a:rect l="l" t="t" r="r" b="b"/>
            <a:pathLst>
              <a:path w="464" h="442">
                <a:moveTo>
                  <a:pt x="231" y="0"/>
                </a:moveTo>
                <a:lnTo>
                  <a:pt x="177" y="167"/>
                </a:lnTo>
                <a:lnTo>
                  <a:pt x="0" y="167"/>
                </a:lnTo>
                <a:lnTo>
                  <a:pt x="144" y="273"/>
                </a:lnTo>
                <a:lnTo>
                  <a:pt x="90" y="441"/>
                </a:lnTo>
                <a:lnTo>
                  <a:pt x="231" y="338"/>
                </a:lnTo>
                <a:lnTo>
                  <a:pt x="373" y="441"/>
                </a:lnTo>
                <a:lnTo>
                  <a:pt x="319" y="273"/>
                </a:lnTo>
                <a:lnTo>
                  <a:pt x="463" y="167"/>
                </a:lnTo>
                <a:lnTo>
                  <a:pt x="286" y="167"/>
                </a:lnTo>
                <a:lnTo>
                  <a:pt x="231" y="0"/>
                </a:lnTo>
              </a:path>
            </a:pathLst>
          </a:custGeom>
          <a:solidFill>
            <a:srgbClr val="336699"/>
          </a:solidFill>
          <a:ln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" name=""/>
          <p:cNvGrpSpPr/>
          <p:nvPr/>
        </p:nvGrpSpPr>
        <p:grpSpPr>
          <a:xfrm>
            <a:off x="7507080" y="708120"/>
            <a:ext cx="1585080" cy="214920"/>
            <a:chOff x="7507080" y="708120"/>
            <a:chExt cx="1585080" cy="214920"/>
          </a:xfrm>
        </p:grpSpPr>
        <p:sp>
          <p:nvSpPr>
            <p:cNvPr id="24" name=""/>
            <p:cNvSpPr/>
            <p:nvPr/>
          </p:nvSpPr>
          <p:spPr>
            <a:xfrm>
              <a:off x="7516800" y="708120"/>
              <a:ext cx="1565280" cy="21276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" name=""/>
            <p:cNvGrpSpPr/>
            <p:nvPr/>
          </p:nvGrpSpPr>
          <p:grpSpPr>
            <a:xfrm>
              <a:off x="7507080" y="708120"/>
              <a:ext cx="1585080" cy="214920"/>
              <a:chOff x="7507080" y="708120"/>
              <a:chExt cx="1585080" cy="214920"/>
            </a:xfrm>
          </p:grpSpPr>
          <p:sp>
            <p:nvSpPr>
              <p:cNvPr id="26" name=""/>
              <p:cNvSpPr/>
              <p:nvPr/>
            </p:nvSpPr>
            <p:spPr>
              <a:xfrm>
                <a:off x="7516800" y="708120"/>
                <a:ext cx="1565280" cy="212760"/>
              </a:xfrm>
              <a:prstGeom prst="roundRect">
                <a:avLst>
                  <a:gd name="adj" fmla="val 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507080" y="708120"/>
                <a:ext cx="1585080" cy="214920"/>
              </a:xfrm>
              <a:prstGeom prst="roundRect">
                <a:avLst>
                  <a:gd name="adj" fmla="val 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0" bIns="46800" anchor="t">
                <a:spAutoFit/>
              </a:bodyPr>
              <a:p>
                <a:pPr algn="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336699"/>
                    </a:solidFill>
                    <a:latin typeface="Times New Roman"/>
                  </a:rPr>
                  <a:t>The University of Texas at Austi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8043840" y="236520"/>
            <a:ext cx="1071720" cy="639720"/>
            <a:chOff x="8043840" y="236520"/>
            <a:chExt cx="1071720" cy="639720"/>
          </a:xfrm>
        </p:grpSpPr>
        <p:sp>
          <p:nvSpPr>
            <p:cNvPr id="29" name=""/>
            <p:cNvSpPr/>
            <p:nvPr/>
          </p:nvSpPr>
          <p:spPr>
            <a:xfrm>
              <a:off x="8043840" y="236520"/>
              <a:ext cx="1071720" cy="63972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043840" y="236520"/>
              <a:ext cx="1071720" cy="639720"/>
              <a:chOff x="8043840" y="236520"/>
              <a:chExt cx="1071720" cy="639720"/>
            </a:xfrm>
          </p:grpSpPr>
          <p:sp>
            <p:nvSpPr>
              <p:cNvPr id="31" name=""/>
              <p:cNvSpPr/>
              <p:nvPr/>
            </p:nvSpPr>
            <p:spPr>
              <a:xfrm>
                <a:off x="8043840" y="236520"/>
                <a:ext cx="1071720" cy="639720"/>
              </a:xfrm>
              <a:prstGeom prst="roundRect">
                <a:avLst>
                  <a:gd name="adj" fmla="val 2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045280" y="236520"/>
                <a:ext cx="1069920" cy="636480"/>
              </a:xfrm>
              <a:prstGeom prst="roundRect">
                <a:avLst>
                  <a:gd name="adj" fmla="val 2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848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GB" sz="3600" spc="-1" strike="noStrike">
                    <a:solidFill>
                      <a:srgbClr val="336699"/>
                    </a:solidFill>
                    <a:latin typeface="Times New Roman"/>
                  </a:rPr>
                  <a:t>AR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8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162000" y="888840"/>
            <a:ext cx="8794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7040" y="581040"/>
            <a:ext cx="1016280" cy="10098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2280960" y="469800"/>
            <a:ext cx="4561560" cy="1112760"/>
            <a:chOff x="2280960" y="469800"/>
            <a:chExt cx="4561560" cy="1112760"/>
          </a:xfrm>
        </p:grpSpPr>
        <p:sp>
          <p:nvSpPr>
            <p:cNvPr id="73" name=""/>
            <p:cNvSpPr/>
            <p:nvPr/>
          </p:nvSpPr>
          <p:spPr>
            <a:xfrm>
              <a:off x="2281320" y="469800"/>
              <a:ext cx="4559040" cy="1112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280960" y="469800"/>
              <a:ext cx="4561560" cy="1112760"/>
              <a:chOff x="2280960" y="469800"/>
              <a:chExt cx="4561560" cy="1112760"/>
            </a:xfrm>
          </p:grpSpPr>
          <p:sp>
            <p:nvSpPr>
              <p:cNvPr id="75" name=""/>
              <p:cNvSpPr/>
              <p:nvPr/>
            </p:nvSpPr>
            <p:spPr>
              <a:xfrm>
                <a:off x="2281320" y="469800"/>
                <a:ext cx="4559040" cy="11127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0960" y="469800"/>
                <a:ext cx="4561560" cy="9921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332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pplied Research Laborato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he University of Texas at Aust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7113600" y="1138320"/>
            <a:ext cx="1770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368080" y="1074600"/>
            <a:ext cx="4388040" cy="1800"/>
          </a:xfrm>
          <a:prstGeom prst="line">
            <a:avLst/>
          </a:prstGeom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802640" y="581040"/>
            <a:ext cx="1047600" cy="10476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80960" y="469800"/>
            <a:ext cx="4561560" cy="1112760"/>
            <a:chOff x="2280960" y="469800"/>
            <a:chExt cx="4561560" cy="1112760"/>
          </a:xfrm>
        </p:grpSpPr>
        <p:sp>
          <p:nvSpPr>
            <p:cNvPr id="81" name=""/>
            <p:cNvSpPr/>
            <p:nvPr/>
          </p:nvSpPr>
          <p:spPr>
            <a:xfrm>
              <a:off x="2281320" y="469800"/>
              <a:ext cx="4559040" cy="1112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280960" y="469800"/>
              <a:ext cx="4561560" cy="1112760"/>
              <a:chOff x="2280960" y="469800"/>
              <a:chExt cx="4561560" cy="1112760"/>
            </a:xfrm>
          </p:grpSpPr>
          <p:sp>
            <p:nvSpPr>
              <p:cNvPr id="83" name=""/>
              <p:cNvSpPr/>
              <p:nvPr/>
            </p:nvSpPr>
            <p:spPr>
              <a:xfrm>
                <a:off x="2281320" y="469800"/>
                <a:ext cx="4559040" cy="11127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0960" y="469800"/>
                <a:ext cx="4561560" cy="9921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332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pplied Research Laborato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he University of Texas at Aust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 flipH="1">
            <a:off x="2368080" y="1074600"/>
            <a:ext cx="4388040" cy="1800"/>
          </a:xfrm>
          <a:prstGeom prst="line">
            <a:avLst/>
          </a:prstGeom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802640" y="58104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4960" y="590400"/>
            <a:ext cx="1000440" cy="1000440"/>
          </a:xfrm>
          <a:prstGeom prst="ellipse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pstk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0960" y="2478240"/>
            <a:ext cx="407844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1400" y="1828440"/>
            <a:ext cx="89154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0920" bIns="460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The GPSTk: GLONASS, RINEX 3.00 and More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457200" y="3949560"/>
            <a:ext cx="9529920" cy="26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0120" bIns="46080" anchor="t">
            <a:noAutofit/>
          </a:bodyPr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omas L. Gaussiran, Eric Hagen, R. Benjamin Harris (presenting), Chris Kieschnic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on C. Little, Richard G. Mach,David C. Munton, Scot L. Nelsen, Colin P. Peters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vid L. Rainwater, Brent A. Renfro, Brian W. Tolman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pplied Research Laboratories, The University of Texas at Aus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goberto Salazar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rupo de Astronomia y Geomatica, Universitat Polit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è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nica de Catalun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ON-GNSS-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ursday, September 24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vannah, Geo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Issues in Growing the GPSTk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2000" y="888480"/>
            <a:ext cx="879624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672480" indent="-671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GPSTk assumed a single unifying time system – GP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ach GNSS will have its own unique 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2480" indent="-671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Tk computations all done in WGS84 (G1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sume each system will have a unique realization of IT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2480" indent="-671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orage a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and access optimized for GP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ata structures must now reflect the different forms of data from each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, we still would like a unifying design for all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2480" indent="-671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io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cast and precise GPS ephemeri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st handle multiple forms of broadcast nav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2480" indent="-671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 only (small support for GLONASS via RINEX 2.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l RINEX 3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9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Design 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955800"/>
            <a:ext cx="8458200" cy="544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62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9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urrent Status of RINEX 3.00 and GLONAS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2000" y="888480"/>
            <a:ext cx="879624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8000"/>
          </a:bodyPr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SVN branch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hanged public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EX 3.00 support added to core 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ime systems and handling has been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reference frames handling is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esign is present that should be exp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224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implementations are in place for GPS, GLON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224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holders for Gali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, navigation file handling for RINEX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tlites/classes for RINEX 2.x seamless conversion to RINEX3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emai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o main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existing applications to RINE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Clock Tool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62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to measure the stability of a receiver attached to a clock, or just the stability of a given clo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ty metrics implemented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an Deviation (nalland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Allan Deviation (oalland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Allan Deviation (malland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eviation (talland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Hadamard Deviation (ohadamardd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Allan Deviation (dallandev) – undergoing re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tools and Stable 32 yield simila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Example of Stability Analysi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057400" y="878040"/>
            <a:ext cx="5029200" cy="3657600"/>
            <a:chOff x="2057400" y="878040"/>
            <a:chExt cx="5029200" cy="36576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2057400" y="878040"/>
              <a:ext cx="5029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057400" y="878040"/>
              <a:ext cx="5029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16000" y="4563720"/>
            <a:ext cx="883908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ctr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10 Pitch"/>
              </a:rPr>
              <a:t>ordGen –o s141220a.08o –e s141220a.08n –w 414_220a.08m | ordClock | ORDPhaseParser | rmoutlier | oallandev &gt; ordClock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10 Pitch"/>
              </a:rPr>
              <a:t>cat 2007.85414 | rmoutlier | oallandev &gt; Kalma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10 Pitch"/>
              </a:rPr>
              <a:t>allanplot ordClockout Kalmanout –c –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Example of GPS Clock Stabilitie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6360" y="914400"/>
            <a:ext cx="9372600" cy="5715000"/>
            <a:chOff x="-36360" y="914400"/>
            <a:chExt cx="9372600" cy="57150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-36360" y="914400"/>
              <a:ext cx="93726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-36360" y="914400"/>
              <a:ext cx="93726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9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Questions? Comments?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08040" y="1884240"/>
            <a:ext cx="5869080" cy="2176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4114800"/>
            <a:ext cx="73152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gpstk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pstk@arlut.utexas.edu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1880" y="46080"/>
            <a:ext cx="772452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136080" bIns="44280" anchor="b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Overview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1640" y="888840"/>
            <a:ext cx="8800920" cy="584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65520" bIns="4428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amentals of the GPS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NEX 3.00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ck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31400"/>
            <a:ext cx="772488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136080" bIns="44280" anchor="b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GPSTk Fundamental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1640" y="888480"/>
            <a:ext cx="8800920" cy="568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87120" bIns="44280" anchor="t">
            <a:normAutofit/>
          </a:bodyPr>
          <a:p>
            <a:pPr marL="336600" indent="-336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ltimate goal:  free researchers and developers from GNSS algorithm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re library +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 oriented, ISO standard C++, platform independe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sion 1.6 contains 158,000 handwritten lines of code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timated value of $6 million (COCOMO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r 1.1: 70,000 lines of code (handwrit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eased under Lesser GNU Public License, or LG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ou have the right to use, modify and redistribute thi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GPL license is no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iral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 modify the GPSTk to make your derivative work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 are externally distributing tha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icense file in the distribution contains the full 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400800"/>
            <a:ext cx="85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0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baseline="33000">
                <a:solidFill>
                  <a:srgbClr val="000000"/>
                </a:solidFill>
                <a:latin typeface="DejaVu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Metrics generated using David A. Wheeler's SLOCCount ut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Project Web Presence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624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site at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gpstk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te is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ik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: Users can modify/reprogram th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ature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tions in La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ful 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 and answe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ily snapshot of library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wing user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Forge services 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wnload of source or b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the developer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C channel </a:t>
            </a: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#gpstk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enode.ne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developers interaction in rea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2240" y="45720"/>
            <a:ext cx="7719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Library Capabilitie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2000" y="888480"/>
            <a:ext cx="429264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NEX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conversion, manipulation and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rix compu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ic transforms of time and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ephemeris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prediction and error mode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frame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oposphere delay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th orientation trans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840" y="888840"/>
            <a:ext cx="429264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C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manac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 level BINEX input an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adcast ephemeris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ck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ycle slip and discontinuity cor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eric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ations and difference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vigation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tronomic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Getting Started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624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download the stable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ary packages for Windows 32 bit, Mac OSX, Linux x386, Linux x86_64,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also get the latest code using Subversion, an open source revision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onymously check out the code base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10 Pitch"/>
              </a:rPr>
              <a:t>svn checkout https://gpstk.svn.sourceforge.net/svnroot/gps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update your code base: </a:t>
            </a:r>
            <a:r>
              <a:rPr b="1" lang="en-US" sz="1600" spc="-1" strike="noStrike">
                <a:solidFill>
                  <a:srgbClr val="000000"/>
                </a:solidFill>
                <a:latin typeface="Courier 10 Pitch"/>
              </a:rPr>
              <a:t>svn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uild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the </a:t>
            </a:r>
            <a:r>
              <a:rPr b="1" lang="en-US" sz="1800" spc="-1" strike="noStrike">
                <a:solidFill>
                  <a:srgbClr val="000000"/>
                </a:solidFill>
                <a:latin typeface="Courier 10 Pitch"/>
              </a:rPr>
              <a:t>j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tility, which automates compiling and l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o the gpstk dev directory and type </a:t>
            </a:r>
            <a:r>
              <a:rPr b="1" lang="en-US" sz="1800" spc="-1" strike="noStrike">
                <a:solidFill>
                  <a:srgbClr val="000000"/>
                </a:solidFill>
                <a:latin typeface="Courier 10 Pitch"/>
              </a:rPr>
              <a:t>j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b some coffe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10 Pitch"/>
              </a:rPr>
              <a:t>m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 used as well. Check the website for deta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uild the library 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Doxygen, a utility that generates documentation from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Graphviz, a package for graphs and 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o the gpstk dev directory and type </a:t>
            </a:r>
            <a:r>
              <a:rPr b="1" lang="en-US" sz="1800" spc="-1" strike="noStrike">
                <a:solidFill>
                  <a:srgbClr val="000000"/>
                </a:solidFill>
                <a:latin typeface="Courier 10 Pitch"/>
              </a:rPr>
              <a:t>d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check your emai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Data Structure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879624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marL="3297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SS Data Structures (GDS) are a feature of the procfram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ructures can be chained to processing objects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objects can provide smoothing, differences,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operations add, modify or remove information to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1800" indent="-273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is made using C++ streaming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10 Pitch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DS supports precise point positioning (PP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00" y="4705200"/>
            <a:ext cx="7586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8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gRin &gt;&gt; myFilter &gt;&gt; model &gt;&gt; baseChange &gt;&gt; solverNE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308480"/>
            <a:ext cx="5256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8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gRin &gt;&gt; myFilter &gt;&gt; model &gt;&gt; solv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800" y="5173560"/>
            <a:ext cx="786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8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gRin &gt;&gt; getPC &gt;&gt; getLC &gt;&gt; getLI &gt;&gt; getMW &gt;&gt; markCSLI 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markCSMW &gt;&gt; smoothPC &gt;&gt; pcFilter &gt;&gt; modelPC &gt;&gt; mopsW 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10 Pitch"/>
              </a:rPr>
              <a:t>baseChange &gt;&gt; solverWM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Why RINEX 3.00 Support?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2000" y="888840"/>
            <a:ext cx="53244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ing Galile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val of GLON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GNSS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ility is gr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(e.g. PPP) will benef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signals in obstructed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EX 3.00 standard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00200" y="4414680"/>
            <a:ext cx="39765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2240" y="92160"/>
            <a:ext cx="77198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9180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Issues in Growing the GPSTk  beyond GPS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2000" y="888480"/>
            <a:ext cx="879624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679320" indent="-6778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GPSTk assumed a single unifying time system – GP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78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Tk computations all done in WGS84 (G1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78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orage a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and access optimized for GP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78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io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cast and precise GPS ephemeri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78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 only (small support for GLONASS via RINEX 2.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0:41:33Z</dcterms:created>
  <dc:creator/>
  <dc:description/>
  <dc:language>en-US</dc:language>
  <cp:lastModifiedBy/>
  <cp:lastPrinted>2007-09-24T18:24:29Z</cp:lastPrinted>
  <dcterms:modified xsi:type="dcterms:W3CDTF">2009-09-21T17:55:57Z</dcterms:modified>
  <cp:revision>30</cp:revision>
  <dc:subject/>
  <dc:title/>
</cp:coreProperties>
</file>