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8B2C-3CBD-454D-9727-A6E680F32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5B88-1993-4AB4-90F6-9C6088A4B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FA1D-08EE-452E-AD71-943F7DF3B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9A54-7B0A-4595-8410-81917BF82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89EC-2A4E-43B3-8AAA-972E0061E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3A1F-275A-48B3-8528-5CA33D1C9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E157-B03C-4905-930A-3B30C11DC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FFF1-48D6-4698-B03B-BC3AA35BA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3F2F-C731-4E1D-9D43-49DD09EDE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F404-BCC7-448A-9519-6B80D1395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0DCC-9639-4DA7-BC6B-D2C2A713D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0C24-A65E-49AB-A658-2B5497CF4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D5623-E216-47C9-B9D5-97F2D45938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320" y="506520"/>
            <a:ext cx="8991360" cy="58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22826" t="0" r="0" b="17587"/>
          <a:stretch/>
        </p:blipFill>
        <p:spPr>
          <a:xfrm>
            <a:off x="152280" y="152280"/>
            <a:ext cx="8915400" cy="64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5T00:09:13Z</dcterms:created>
  <dc:creator>fx</dc:creator>
  <dc:description/>
  <dc:language>en-US</dc:language>
  <cp:lastModifiedBy>fx-Russell</cp:lastModifiedBy>
  <dcterms:modified xsi:type="dcterms:W3CDTF">2010-04-17T02:06:48Z</dcterms:modified>
  <cp:revision>11</cp:revision>
  <dc:subject/>
  <dc:title>PR2 Gripper Anodize Stripping Rework Procedure</dc:title>
</cp:coreProperties>
</file>