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BEE-C6F0-4B49-B667-508763B9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B38-5C3F-4A82-B130-6F884F4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E6E-8626-4298-8153-15E6FF0F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4CA-6766-4789-BA2E-1096D293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58BA-63CA-408F-9AC8-FF96D47F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929-EDE1-4A23-952B-6659171E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2F6-6DBC-4A1D-8F14-309AE67E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F92-E33B-40BC-B245-EA7BA6CF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FC0-03D9-4BB7-B1C9-BC682BA8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F68-1E2D-4907-8873-F002F85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C58-D030-46FD-98EF-FA37A0DE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DE48-7417-4EC5-A851-BCFB36B8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FD69-7282-4B2B-AA62-11314E3E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506520"/>
            <a:ext cx="899136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2826" t="0" r="0" b="17587"/>
          <a:stretch/>
        </p:blipFill>
        <p:spPr>
          <a:xfrm>
            <a:off x="152280" y="152280"/>
            <a:ext cx="89154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0:09:13Z</dcterms:created>
  <dc:creator>fx</dc:creator>
  <dc:description/>
  <dc:language>en-US</dc:language>
  <cp:lastModifiedBy>fx-Russell</cp:lastModifiedBy>
  <dcterms:modified xsi:type="dcterms:W3CDTF">2010-04-17T02:06:48Z</dcterms:modified>
  <cp:revision>11</cp:revision>
  <dc:subject/>
  <dc:title>PR2 Gripper Anodize Stripping Rework Procedure</dc:title>
</cp:coreProperties>
</file>