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EAA8-2E25-4562-B2C9-EC4B99BE6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112A-0F75-4440-BFA8-A4DB1E248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402F-D45B-4B62-B16A-90B2E17D5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2182-BD93-47C5-9B58-795347DCC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03F0-0ED3-4B31-A3A0-84EB3418C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682C-88DB-4D77-B855-DEA465409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0AD9-532D-4E0B-B114-0CC6E7C84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0841-96FD-4B66-9EC7-EC02F8897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B225-85BB-4206-895F-D9D1E9A54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35C4-1CE1-4795-A992-B5CAE8A7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CB4A-7244-4075-949C-8A271036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8E5D-58E1-4C5F-B7DC-66449F83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6604C-FEAE-4246-B851-189B8AF22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320" y="506520"/>
            <a:ext cx="8991360" cy="58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22826" t="0" r="0" b="17587"/>
          <a:stretch/>
        </p:blipFill>
        <p:spPr>
          <a:xfrm>
            <a:off x="152280" y="152280"/>
            <a:ext cx="8915400" cy="64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00:09:13Z</dcterms:created>
  <dc:creator>fx</dc:creator>
  <dc:description/>
  <dc:language>en-US</dc:language>
  <cp:lastModifiedBy>fx-Russell</cp:lastModifiedBy>
  <dcterms:modified xsi:type="dcterms:W3CDTF">2010-04-17T02:06:48Z</dcterms:modified>
  <cp:revision>11</cp:revision>
  <dc:subject/>
  <dc:title>PR2 Gripper Anodize Stripping Rework Procedure</dc:title>
</cp:coreProperties>
</file>